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C691-4D41-4293-BAB0-3B4592C5C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E25B-74DC-4DC5-849F-A92F31D2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9BF8E5-62D5-4F96-A1F8-BEFECD30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DCAAB-70DA-494C-9221-AAC5C562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5E968-5E7C-4532-81F4-D94CE032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B99BE3-4BB8-4AE0-8949-DB7F1806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091D1-A4FD-4D58-8A80-6093611A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048E05-046E-488C-80A5-CFFE7F88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FFFF3-6B9B-42FB-A526-D27C4DE1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73162-AE3A-4429-806F-9AA305345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17FC79-B6A6-400D-92AF-82C62DB24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A351CC-029B-4D6B-B184-9AC312312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707D-8796-4889-9890-214E38BFE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797D0-1357-4274-B54D-F90D68A2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C0CA97-88D1-41CE-968F-DAF6F2CB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8CDF87-1DF5-4F70-A489-49EEE0FA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7F8F1D-1224-468F-A6F1-50B35AD3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C71ED-479D-4DED-91F9-A0C01389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F4C41-E3A4-455D-8024-C255D327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057314-EE19-4A95-BE9D-8B83B58D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9F58AB-2704-42B8-87DF-F7F4DB5A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5B6B0-460A-4A08-88FE-03269CBF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76F1BB-3C66-45BE-A7F0-33E516765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E911-D6BE-410B-B79B-407C63257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4F7CA6-0022-4309-B1BD-634DBF0D3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414A3-009E-42CF-84E2-014176043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72EC2-F97A-4115-89D5-49D0FF2C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A3769-2FD9-441D-8856-88E93CC0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B7871-C485-497F-AE8B-5DC4A7C2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379EE-4E91-44B6-B66C-124AEA2E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57E9A-55AC-4DCF-A614-6796AFE1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2D1CC-5BDB-4D04-B48A-7D0378A2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1ED52-9AE2-4187-997F-F0DA9CB2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C5224A-6458-4627-84AD-470ADC06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9E22-11F3-40F6-9EDB-CE41F2AA9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80A51-1E39-4002-AFAD-9262768B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318DDA-C39B-4185-BF1D-7685813C8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9626C-985D-4866-80F8-EAD8F4622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7A2E8B-D01F-4CCC-AB8B-10BCD5EF9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C43A57-0669-4662-B9B9-A7113B13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1C9CC6-36E4-42B0-94A8-1340D74D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5985B0-8AD1-4D11-A9A6-F45348E7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63B499-233D-453F-A435-116E1D3A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900183-6F39-4C53-B267-F3FA37F4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98343C-8A39-4960-A477-8FF08971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95DC-A646-4847-AC74-AC5DF6FC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387E96-FF43-46BD-A8E4-ED24E4D5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FAB594-0F7A-4768-8DDB-0FCD4C56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7FE0CC-B954-42D4-8C4B-BE15E585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F04BDF-226E-4659-B4A6-F172A2C8F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7B83D6-57A9-4BA3-B078-A768C4EA8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1E75A7-0DDA-4EEC-A4DD-C6BE35403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2BC00B-0616-473C-8B57-EC246605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437E61-7AF9-40D2-8804-07A7FED8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B32155-12D5-43B2-A201-734268EC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EA3AD5-4282-4BAB-9730-7F53E657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A894F-A7B3-4B3A-B850-40337A0D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699C2C-DA67-434E-B3EB-D5AA0F5B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72FEA3-BC06-4D2F-BADC-5755F5C8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8BC80A-7B14-44DE-A4D5-AA811B77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026DD9-D467-4766-98E8-583CE392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814C42-5410-4E6F-917D-2972EEB8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E6E53C-B066-48DA-9A8B-C8775E336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2D0FA0-F0F4-4BF0-BFDC-474FA55AB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B58492-9F11-46A4-92C5-D4766066C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90AA3E-6205-4651-848C-DDF9BD7F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7B9A6D-E332-4C79-B357-8B9F98E6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3125-EE81-4BA6-A208-0853B3F9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BC0BD7-3718-4CBC-AC5C-56BC2236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82D86F-CF9E-4E70-9430-6727A0F7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AC6476-8D2C-4A8C-B56B-F0EA1FF8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2D06C4-6936-42C2-A048-0EA3ABC7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0D4DF7-AAD9-4269-9FED-CBB79C32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5DA4A1-EDC4-4924-9D98-134C5E7C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1C7C4B-D5B0-43FE-BD75-423260CD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8A8BC1-3770-411C-A15B-6E9B70F49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04DD72-12C8-4C3F-927B-1BF87E61E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872B2C-E3A4-40D8-9713-0CEBD2DFA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AA40-D07C-47B4-B924-E08173D0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2486F6-463D-490D-B75E-FFD10ABD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6AB58A-18BA-4D31-80D1-30B30310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9321ED-F922-4F1A-8EF7-F3D9746E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A5CDFB-1DE2-434D-95E4-060FF233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F9F14A-E71A-47C7-9F01-FAFE4FA2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7AC659-E917-4A74-BB6E-B5B267E2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9B7747-97A2-4F63-B914-2ACB9077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CB2FB9-3B2E-40BE-BA0B-AF430F93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E2DA67-4104-472A-A18D-72478461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5F5D41-492A-48E8-9311-750F642A9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DD46-8F63-483A-B180-4F7B3202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63CDC6-5927-4A07-B677-16468C6E7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EC99C5-6C3D-4C90-944D-6CDF134E1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EC15AB-B928-4B76-B63F-F3283CBA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D6C438-A262-43D9-B881-BFF98F67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6001AD-7B6E-4AF3-BDBF-F35479D5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FE1165-DC4B-4E64-8154-7E42C953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0551CD-DEF0-4CA7-94AE-1A3E0650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D533F4-F6F1-4D45-B713-1DE8D684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C1B678-4581-4E5A-9821-C2F735EE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A7B9E5-24F6-4253-AC8E-D6E856D7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4460-CC08-464A-8617-4592BBE0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3F6331-74B8-4A0D-9655-BD0D41EE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DE6A2D-2C2A-4EF4-8D99-A99C0548E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D08FDF-34FA-44D3-8A11-19EA9BA09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4F2328-A4C5-440A-B130-8A58BFCA4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3F0513-6E5A-4CC8-93D5-291FD1A2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9C386E-6974-4A8C-96A1-882F7CD0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322F3A-2C37-43B4-92A7-4E065E99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8F1BBA-D269-4EDF-8D24-2D11D17B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03B4C4-5580-4193-A490-9768DDC3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8C92F9-23ED-46A4-8C44-6DB12ED7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6FE8-C4C4-4271-91B7-928B9BDF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0657-B623-4AAA-933E-83FCAFB8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08797F-A458-4DCF-902B-A48D30AA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335A5B-6A2D-45A6-93B4-842FE643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7A6E3A-AE3E-439B-AC4F-CE61DBA5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3186BD-CDE2-46B9-843B-20FAA40BE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44C4CE-4D72-419A-9A86-60E1E7480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7E498D-C5C9-46A0-831F-FF9423A76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DFD992-57F8-446E-AEF8-C849F70C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F2169A-3CBD-42D6-BDFD-54DCAE8C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6EF633-9300-467D-A066-E9FCB432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07983D-0C23-47F2-8619-6B598F05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A02F-BBB3-4F35-84EC-54932B3D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81ED54-0328-4A31-B687-43EDA73A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311A7D-5BF6-4F4A-BC82-46A3DF5A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06982D-A560-4763-BFB0-18433456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8A6070-C26C-422F-AA1E-1EE97E3E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7D8318-3591-4E92-956F-41B4F060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E6423F-EE94-4B72-A777-BF77B28FA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9FC26D-F3AD-4CFD-AE7D-91B7447C1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E7490C-49A0-4B17-AA0E-426BD9DEC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8C5AE1-7794-4263-A665-C8D1293A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AC3F03-02F5-48A2-A026-E939778F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207E-2C50-4BCE-82D6-77C38862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823E62-7D81-4FF3-BA9D-CE1AD448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9D3EB0-97DF-4421-B998-4334F498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36E68B-6927-4D86-9AE8-CA02B130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EDF9A3-F2A7-48BB-89F1-43B22AB9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07AD49-8F4F-4B64-9989-662D1349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A43E5D-A99E-4E5B-93AE-42E8BF1C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7092C1-2F71-4E58-895F-819D3F7B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0562ED-7DCA-452C-A318-E412C07F7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B25246-672C-4D06-A99C-AC0E5ABFD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1303DC-6B28-47E2-8CBE-9EAE37C1A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23FA6-785D-470D-9040-457F757D2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03191E-7893-40A0-ACCB-5F9D72F9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758A1A-006E-4844-BBBA-BD73A442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0A251D-C1C3-42C6-8BC8-ECB22FC4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CF1288-565D-4F29-A30A-1F258400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0AC4E4-6173-4AD2-9259-AB4DAA9B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ED9FD0-812A-4399-A4B8-E7AE5340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0B7B83-79FA-4CC3-AC75-1E852A42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39CA4D-FCF9-4097-B907-8F2E08BD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31E6EB-B547-47D4-B1FD-72778248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7310FC-03D3-4959-B16C-B2C547759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82EF-EADC-40F6-B5C3-D7D32507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43CDC2-B915-4F4E-9F5A-7641B8908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D2235E-5516-4A5C-8395-5265B41E8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5ED5A4-5191-4B3D-B8B5-1F22A8A9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47005A-E1CF-4FB3-9759-333C2236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7C94C7-3D3F-4965-84AD-45D5C49E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323315-889E-48D4-8358-36B7A964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E9E3A7-4A5C-4EC8-B9C4-AB14548D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FF535C-65BD-4D39-91F7-C5F4DA7D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411800-F27E-4823-9250-A34EB8D4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62D6CD-BFDC-4E41-802D-77778C4A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88E12-E245-44BC-B474-3C868D54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B19B0B-CB5F-425E-9047-D44D130E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1D5579-33F8-44D2-9F75-B53EB0E3E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981FE1-C89B-462B-9812-D942998A8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7A5CC-D875-4664-9BCF-0230A2FF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4CC86-0486-49A8-8E35-465B5076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B8F19-3B50-4E5A-ACDE-B43C46B5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43D70-D89F-4F69-9B16-AD103AFC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48EA-D6BF-4143-9772-81A88F79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023B3-0368-452A-B83D-34347F9B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9F38A-48BF-4809-88A4-8A9B4026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68539-532B-4D5C-9D8C-DDC9478D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0C3B9-A557-478C-AF12-1791CB95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E3331-197D-4195-AF87-66DD3521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6512C-D01E-4522-8297-9DA82E5CB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D881D-61D7-4F0B-B256-6F3012BD9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1E787-412D-482A-B621-454D45AC2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5B1D7-FAAB-4E47-8229-70CC7005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9FE87-06BC-4CAA-BD23-17539626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43F1-5DAB-49C8-A61F-29FCCD45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F8639-18D2-48A8-AFFE-077A760D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5B18D-B6A7-4699-B462-0807B96E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013D0-07DE-42B4-806F-CB8F29AE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FB9FD-7BC9-4135-A094-2FB43777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CC0C7-DD27-4A20-A80C-CCB4F271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53753-D4EF-499B-AD8A-233BA1BC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92F0F-9E38-485E-AEEC-12FA9FC1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51F77-CB89-41D5-B910-2EE029825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7FE6A-F8E5-4412-9D11-488D3B79D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DC501-4760-41AA-B590-A348FDCD7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F237-4F6F-4018-884B-D1674F4E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ACB72-A937-4E1D-992B-2F667B52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5A237-2811-4B68-8810-A19B8D84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0D75D-87E7-46E5-B753-5FC31B10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57DB8-8914-4C44-9D8C-44681F88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4DCA7-578B-43DE-9DBB-1CD66738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9741D-EE22-4B9D-AC19-D5372BF6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F204A-E5CF-4F95-A271-4C0FDA70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FF29C-5897-453C-8D21-73F59FB5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7FE79-C5EB-4705-89FB-B50E8E07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65FB0-2358-4BC7-B6AC-CA85E78EB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89E9-FA38-40B7-9D11-7765E8B8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C767C-E22B-4B36-8681-A39945505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4C27C-D80B-4812-BF44-05AC4D20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1BF0F-D2B6-456E-B73A-C0DED17A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5464B-CC6B-4030-82CC-6DC9BE4E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F503A-82C3-4570-99A5-CC414CFE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2D17C-6313-4E6B-AC27-862904F3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348BD-3AB6-4E82-8386-CF061D0B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A7812-3987-433E-AF5C-36894BE6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98E93-DA16-4C87-BFCD-5EB94078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F31EE-9415-4306-89C0-54E14220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6129-DF59-4E29-88A5-EDF11952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FACB3-D0EB-4875-9B1C-0AE18F18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7061A-F8BA-4AC6-AB6C-62F2F3C5F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FA63F-3496-4A58-B5D0-90D5F8278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FC79E-6593-440F-BE03-DFE5810A4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EC777-83A9-4192-9063-F911DE67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C730F-05CB-4C6B-A50F-E7E3E88F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21EC9-6606-4551-B57F-BEB9942A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9075D-7A4D-4379-A50D-3A0D9BBD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32D0D-8DFF-47AA-A73C-6371CDE6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CD34E-42DD-4C80-924D-21927E14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8418-BFE4-48DE-A5C5-9887BA74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3B1C7-1C8A-42DD-A711-5F730160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3D433-4508-4461-8C08-9FE5DDE9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B4D2D-0123-4F6A-9297-744B3590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D22FC-FAD1-4C01-BF85-77AD83FA6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547E1-D10E-4C86-B2B9-386488383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99D94-9F6E-472B-B463-345DE3819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74AD8-6462-403A-A80E-AD6B99B5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43FE9-F8FF-4781-91DD-ACCA1C23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9F82A-48B0-41FE-92C4-921CE902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C252B-07EC-479F-B356-426A8AB6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EE4B-F231-4BC3-8746-39E2C132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087A2-E58D-453F-BB94-0D167C6E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C57BA-8F2F-4BE3-B011-89BAB6DB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101B7-B8AE-4DDE-AD2E-463ECF1A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A8F83-5F43-407B-8CBD-EDF48264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5F717-456D-4504-BA4D-D07EF2E8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6F6C3-033E-493C-BD9C-91E381DEA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2F389-6CB6-4FDF-92BA-0951E0743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8231B2-17C1-4F44-8926-024D7A19E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BD87CD-967A-45BC-96AE-9A302449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F8A9A-F051-4D5E-83FC-42646CD3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AAA9-EC34-4B6B-A93B-74B2CF5154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4434-1A86-44C6-9BC3-09669C8900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D166-E098-4042-917E-2261C825D2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72BE-39D9-43DE-A6B8-C21323A5A6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2102-CBCA-4F47-B72E-B57BA934F8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780B-134D-4595-9D39-08FC36A23F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D8F0-CAEA-4883-AAF3-EB412FC4A6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4A49-5A23-4205-AC18-29A27DBB1A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F8E8-79D5-4CF2-A947-48DC69C2FC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99D9-0DCA-4A66-B070-6E371EC1DD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EA4C-4631-4477-86A5-E17FFDBC38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EA40-513E-4CC9-8505-57B370A090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D0A1-78E4-4633-A26E-D581B59986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AD71-56C7-4869-911E-3672E78066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5902-92DB-4B72-A37D-88D5BFF6E5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58FA-568B-4E61-A115-512BDF7343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B39C-23E4-4318-A960-8AF3202B77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B810-424B-49AB-A5AA-A68AA64A3D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7732-9034-4CE6-9759-1DCC848F0E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9517-49EE-469F-997C-DE5553BB73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00BC-685B-4030-905B-EA41BC8558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6B3D-1626-460C-A17B-C7037BCCA5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54B4-BB00-4447-BA73-615C3C2F93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FFB1-FF30-4C2B-A239-89D0F93B96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50D7-E24B-4B3D-BCB0-CE990896F6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9D33-E70A-4C8D-8B21-5067FE3D5A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E00C-471E-43F8-BC24-64D0BD1182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FBCD-7E4C-4B1A-8D97-72E70D88E6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4D07-14C0-4734-B448-C9908797ED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AA39-DDE8-459A-B7AD-56CA23B2C0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D4F0-50E8-4858-AB38-D143356372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6DE3-3180-4FA6-B2D9-9B10F9ADED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C6BB-FE7E-406A-9150-9091BFA16C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6872-302F-44D3-9665-CEB1927E4D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8D56-4408-4183-A7AB-9A7B81BAE1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D275-EC4D-4F03-AE55-D42DB0CF3D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B868-512E-42D8-A920-45DBA96132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DB3D-2C35-40B8-8246-EAC2732EDE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E013-9849-46BF-BB26-BBF00C50CC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8D34-F75D-4E5B-9A24-E4D21883BC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8" descr=""/>
          <p:cNvPicPr/>
          <p:nvPr/>
        </p:nvPicPr>
        <p:blipFill>
          <a:blip r:embed="rId1"/>
          <a:stretch/>
        </p:blipFill>
        <p:spPr>
          <a:xfrm>
            <a:off x="1062000" y="2928960"/>
            <a:ext cx="70200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图片 69633" descr=""/>
          <p:cNvPicPr/>
          <p:nvPr/>
        </p:nvPicPr>
        <p:blipFill>
          <a:blip r:embed="rId1"/>
          <a:stretch/>
        </p:blipFill>
        <p:spPr>
          <a:xfrm>
            <a:off x="209520" y="725400"/>
            <a:ext cx="8724960" cy="594360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2"/>
          <a:stretch/>
        </p:blipFill>
        <p:spPr>
          <a:xfrm>
            <a:off x="7970760" y="2421000"/>
            <a:ext cx="561960" cy="461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3"/>
          <a:stretch/>
        </p:blipFill>
        <p:spPr>
          <a:xfrm>
            <a:off x="8028000" y="4149720"/>
            <a:ext cx="561960" cy="46188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4"/>
          <a:stretch/>
        </p:blipFill>
        <p:spPr>
          <a:xfrm>
            <a:off x="250920" y="5214960"/>
            <a:ext cx="86421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7" name="图片 68609" descr=""/>
          <p:cNvPicPr/>
          <p:nvPr/>
        </p:nvPicPr>
        <p:blipFill>
          <a:blip r:embed="rId1"/>
          <a:stretch/>
        </p:blipFill>
        <p:spPr>
          <a:xfrm>
            <a:off x="214200" y="828720"/>
            <a:ext cx="8715600" cy="520056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2"/>
          <a:stretch/>
        </p:blipFill>
        <p:spPr>
          <a:xfrm>
            <a:off x="4932360" y="1341360"/>
            <a:ext cx="863640" cy="46188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3"/>
          <a:stretch/>
        </p:blipFill>
        <p:spPr>
          <a:xfrm>
            <a:off x="1332000" y="3040200"/>
            <a:ext cx="863640" cy="46188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4"/>
          <a:stretch/>
        </p:blipFill>
        <p:spPr>
          <a:xfrm>
            <a:off x="4284720" y="3054240"/>
            <a:ext cx="863640" cy="46224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5"/>
          <a:stretch/>
        </p:blipFill>
        <p:spPr>
          <a:xfrm>
            <a:off x="7236000" y="3054240"/>
            <a:ext cx="863280" cy="4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图片 67585" descr=""/>
          <p:cNvPicPr/>
          <p:nvPr/>
        </p:nvPicPr>
        <p:blipFill>
          <a:blip r:embed="rId1"/>
          <a:stretch/>
        </p:blipFill>
        <p:spPr>
          <a:xfrm>
            <a:off x="328680" y="2976480"/>
            <a:ext cx="8486640" cy="90504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2"/>
          <a:stretch/>
        </p:blipFill>
        <p:spPr>
          <a:xfrm>
            <a:off x="179280" y="2852640"/>
            <a:ext cx="87854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图片 66561" descr=""/>
          <p:cNvPicPr/>
          <p:nvPr/>
        </p:nvPicPr>
        <p:blipFill>
          <a:blip r:embed="rId1"/>
          <a:stretch/>
        </p:blipFill>
        <p:spPr>
          <a:xfrm>
            <a:off x="628560" y="2347920"/>
            <a:ext cx="7886880" cy="216216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056720" cy="46188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3"/>
          <a:stretch/>
        </p:blipFill>
        <p:spPr>
          <a:xfrm>
            <a:off x="1116000" y="4005360"/>
            <a:ext cx="7056360" cy="4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7" name="图片 65537" descr=""/>
          <p:cNvPicPr/>
          <p:nvPr/>
        </p:nvPicPr>
        <p:blipFill>
          <a:blip r:embed="rId1"/>
          <a:stretch/>
        </p:blipFill>
        <p:spPr>
          <a:xfrm>
            <a:off x="538200" y="1595520"/>
            <a:ext cx="8067600" cy="366696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2"/>
          <a:stretch/>
        </p:blipFill>
        <p:spPr>
          <a:xfrm>
            <a:off x="468360" y="2881440"/>
            <a:ext cx="7704000" cy="46188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3"/>
          <a:stretch/>
        </p:blipFill>
        <p:spPr>
          <a:xfrm>
            <a:off x="395280" y="3429000"/>
            <a:ext cx="7704000" cy="46188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4"/>
          <a:stretch/>
        </p:blipFill>
        <p:spPr>
          <a:xfrm>
            <a:off x="324000" y="4005360"/>
            <a:ext cx="7704000" cy="46188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5"/>
          <a:stretch/>
        </p:blipFill>
        <p:spPr>
          <a:xfrm>
            <a:off x="468360" y="4581360"/>
            <a:ext cx="7704000" cy="4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2" name="图片 64513" descr=""/>
          <p:cNvPicPr/>
          <p:nvPr/>
        </p:nvPicPr>
        <p:blipFill>
          <a:blip r:embed="rId1"/>
          <a:stretch/>
        </p:blipFill>
        <p:spPr>
          <a:xfrm>
            <a:off x="566640" y="1481040"/>
            <a:ext cx="8010720" cy="389592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2"/>
          <a:stretch/>
        </p:blipFill>
        <p:spPr>
          <a:xfrm>
            <a:off x="482760" y="3213000"/>
            <a:ext cx="4824360" cy="100800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3"/>
          <a:stretch/>
        </p:blipFill>
        <p:spPr>
          <a:xfrm>
            <a:off x="5364000" y="3429000"/>
            <a:ext cx="2521080" cy="46188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" descr=""/>
          <p:cNvPicPr/>
          <p:nvPr/>
        </p:nvPicPr>
        <p:blipFill>
          <a:blip r:embed="rId4"/>
          <a:stretch/>
        </p:blipFill>
        <p:spPr>
          <a:xfrm>
            <a:off x="250920" y="4307040"/>
            <a:ext cx="69850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图片 63489" descr=""/>
          <p:cNvPicPr/>
          <p:nvPr/>
        </p:nvPicPr>
        <p:blipFill>
          <a:blip r:embed="rId1"/>
          <a:stretch/>
        </p:blipFill>
        <p:spPr>
          <a:xfrm>
            <a:off x="262080" y="1157400"/>
            <a:ext cx="8619840" cy="454320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2"/>
          <a:stretch/>
        </p:blipFill>
        <p:spPr>
          <a:xfrm>
            <a:off x="826920" y="2290680"/>
            <a:ext cx="7417080" cy="46188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3"/>
          <a:stretch/>
        </p:blipFill>
        <p:spPr>
          <a:xfrm>
            <a:off x="826920" y="2852640"/>
            <a:ext cx="7417080" cy="46224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4"/>
          <a:stretch/>
        </p:blipFill>
        <p:spPr>
          <a:xfrm>
            <a:off x="826920" y="3443400"/>
            <a:ext cx="7417080" cy="46188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1" descr=""/>
          <p:cNvPicPr/>
          <p:nvPr/>
        </p:nvPicPr>
        <p:blipFill>
          <a:blip r:embed="rId5"/>
          <a:stretch/>
        </p:blipFill>
        <p:spPr>
          <a:xfrm>
            <a:off x="826920" y="4076640"/>
            <a:ext cx="7417080" cy="79236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1" descr=""/>
          <p:cNvPicPr/>
          <p:nvPr/>
        </p:nvPicPr>
        <p:blipFill>
          <a:blip r:embed="rId6"/>
          <a:stretch/>
        </p:blipFill>
        <p:spPr>
          <a:xfrm>
            <a:off x="900000" y="5013360"/>
            <a:ext cx="7417080" cy="4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1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6" dur="1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2" name="图片 62465" descr=""/>
          <p:cNvPicPr/>
          <p:nvPr/>
        </p:nvPicPr>
        <p:blipFill>
          <a:blip r:embed="rId1"/>
          <a:stretch/>
        </p:blipFill>
        <p:spPr>
          <a:xfrm>
            <a:off x="266760" y="781200"/>
            <a:ext cx="8610480" cy="560052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1" descr=""/>
          <p:cNvPicPr/>
          <p:nvPr/>
        </p:nvPicPr>
        <p:blipFill>
          <a:blip r:embed="rId2"/>
          <a:stretch/>
        </p:blipFill>
        <p:spPr>
          <a:xfrm>
            <a:off x="755640" y="4206960"/>
            <a:ext cx="7848720" cy="46188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1" descr=""/>
          <p:cNvPicPr/>
          <p:nvPr/>
        </p:nvPicPr>
        <p:blipFill>
          <a:blip r:embed="rId3"/>
          <a:stretch/>
        </p:blipFill>
        <p:spPr>
          <a:xfrm>
            <a:off x="611280" y="4782960"/>
            <a:ext cx="7848360" cy="46224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1" descr=""/>
          <p:cNvPicPr/>
          <p:nvPr/>
        </p:nvPicPr>
        <p:blipFill>
          <a:blip r:embed="rId4"/>
          <a:stretch/>
        </p:blipFill>
        <p:spPr>
          <a:xfrm>
            <a:off x="612720" y="5359320"/>
            <a:ext cx="7848720" cy="46188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1" descr=""/>
          <p:cNvPicPr/>
          <p:nvPr/>
        </p:nvPicPr>
        <p:blipFill>
          <a:blip r:embed="rId5"/>
          <a:stretch/>
        </p:blipFill>
        <p:spPr>
          <a:xfrm>
            <a:off x="468360" y="5935680"/>
            <a:ext cx="7848720" cy="4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3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8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3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8" dur="1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7" name="图片 61441" descr=""/>
          <p:cNvPicPr/>
          <p:nvPr/>
        </p:nvPicPr>
        <p:blipFill>
          <a:blip r:embed="rId1"/>
          <a:stretch/>
        </p:blipFill>
        <p:spPr>
          <a:xfrm>
            <a:off x="190440" y="847800"/>
            <a:ext cx="876312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8" name="图片 70657" descr=""/>
          <p:cNvPicPr/>
          <p:nvPr/>
        </p:nvPicPr>
        <p:blipFill>
          <a:blip r:embed="rId1"/>
          <a:stretch/>
        </p:blipFill>
        <p:spPr>
          <a:xfrm>
            <a:off x="557280" y="809640"/>
            <a:ext cx="8029440" cy="523872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1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8136000" cy="46188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1" descr=""/>
          <p:cNvPicPr/>
          <p:nvPr/>
        </p:nvPicPr>
        <p:blipFill>
          <a:blip r:embed="rId3"/>
          <a:stretch/>
        </p:blipFill>
        <p:spPr>
          <a:xfrm>
            <a:off x="395280" y="1355760"/>
            <a:ext cx="8136000" cy="46188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1" descr=""/>
          <p:cNvPicPr/>
          <p:nvPr/>
        </p:nvPicPr>
        <p:blipFill>
          <a:blip r:embed="rId4"/>
          <a:stretch/>
        </p:blipFill>
        <p:spPr>
          <a:xfrm>
            <a:off x="539640" y="1989000"/>
            <a:ext cx="8136000" cy="46224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1" descr=""/>
          <p:cNvPicPr/>
          <p:nvPr/>
        </p:nvPicPr>
        <p:blipFill>
          <a:blip r:embed="rId5"/>
          <a:stretch/>
        </p:blipFill>
        <p:spPr>
          <a:xfrm>
            <a:off x="395280" y="2565360"/>
            <a:ext cx="8136000" cy="46188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1" descr=""/>
          <p:cNvPicPr/>
          <p:nvPr/>
        </p:nvPicPr>
        <p:blipFill>
          <a:blip r:embed="rId6"/>
          <a:stretch/>
        </p:blipFill>
        <p:spPr>
          <a:xfrm>
            <a:off x="468360" y="3156120"/>
            <a:ext cx="8136000" cy="106488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1" descr=""/>
          <p:cNvPicPr/>
          <p:nvPr/>
        </p:nvPicPr>
        <p:blipFill>
          <a:blip r:embed="rId7"/>
          <a:stretch/>
        </p:blipFill>
        <p:spPr>
          <a:xfrm>
            <a:off x="324000" y="4292640"/>
            <a:ext cx="8135640" cy="106524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1" descr=""/>
          <p:cNvPicPr/>
          <p:nvPr/>
        </p:nvPicPr>
        <p:blipFill>
          <a:blip r:embed="rId8"/>
          <a:stretch/>
        </p:blipFill>
        <p:spPr>
          <a:xfrm>
            <a:off x="395280" y="5445000"/>
            <a:ext cx="8136000" cy="4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5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0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5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0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5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0" dur="1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5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60428" descr=""/>
          <p:cNvPicPr/>
          <p:nvPr/>
        </p:nvPicPr>
        <p:blipFill>
          <a:blip r:embed="rId1"/>
          <a:stretch/>
        </p:blipFill>
        <p:spPr>
          <a:xfrm>
            <a:off x="1576440" y="1028880"/>
            <a:ext cx="5991120" cy="480060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3851280" y="3500280"/>
            <a:ext cx="1441440" cy="47340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3276720" y="4105440"/>
            <a:ext cx="1441440" cy="4730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4"/>
          <a:stretch/>
        </p:blipFill>
        <p:spPr>
          <a:xfrm>
            <a:off x="1258920" y="4681440"/>
            <a:ext cx="144144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7" name="组合 59412"/>
          <p:cNvGrpSpPr/>
          <p:nvPr/>
        </p:nvGrpSpPr>
        <p:grpSpPr>
          <a:xfrm>
            <a:off x="684360" y="189000"/>
            <a:ext cx="5962680" cy="6408720"/>
            <a:chOff x="684360" y="189000"/>
            <a:chExt cx="5962680" cy="6408720"/>
          </a:xfrm>
        </p:grpSpPr>
        <p:pic>
          <p:nvPicPr>
            <p:cNvPr id="1028" name="图片 59410" descr=""/>
            <p:cNvPicPr/>
            <p:nvPr/>
          </p:nvPicPr>
          <p:blipFill>
            <a:blip r:embed="rId1"/>
            <a:stretch/>
          </p:blipFill>
          <p:spPr>
            <a:xfrm>
              <a:off x="684360" y="189000"/>
              <a:ext cx="5962680" cy="52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9" name="图片 59411" descr=""/>
            <p:cNvPicPr/>
            <p:nvPr/>
          </p:nvPicPr>
          <p:blipFill>
            <a:blip r:embed="rId2"/>
            <a:stretch/>
          </p:blipFill>
          <p:spPr>
            <a:xfrm>
              <a:off x="684360" y="5540400"/>
              <a:ext cx="5962680" cy="1057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2700360" y="3730680"/>
            <a:ext cx="4248000" cy="4730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539640" y="4321080"/>
            <a:ext cx="4248360" cy="4730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5"/>
          <a:stretch/>
        </p:blipFill>
        <p:spPr>
          <a:xfrm>
            <a:off x="4859280" y="4365720"/>
            <a:ext cx="3132360" cy="4730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6"/>
          <a:stretch/>
        </p:blipFill>
        <p:spPr>
          <a:xfrm>
            <a:off x="611280" y="4897440"/>
            <a:ext cx="3132000" cy="4730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7"/>
          <a:stretch/>
        </p:blipFill>
        <p:spPr>
          <a:xfrm>
            <a:off x="468360" y="5487840"/>
            <a:ext cx="6551640" cy="4734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8"/>
          <a:stretch/>
        </p:blipFill>
        <p:spPr>
          <a:xfrm>
            <a:off x="468360" y="6107040"/>
            <a:ext cx="655164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图片 58373" descr=""/>
          <p:cNvPicPr/>
          <p:nvPr/>
        </p:nvPicPr>
        <p:blipFill>
          <a:blip r:embed="rId1"/>
          <a:stretch/>
        </p:blipFill>
        <p:spPr>
          <a:xfrm>
            <a:off x="1576440" y="1819440"/>
            <a:ext cx="5991120" cy="32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图片 57352" descr=""/>
          <p:cNvPicPr/>
          <p:nvPr/>
        </p:nvPicPr>
        <p:blipFill>
          <a:blip r:embed="rId1"/>
          <a:stretch/>
        </p:blipFill>
        <p:spPr>
          <a:xfrm>
            <a:off x="1628640" y="2085840"/>
            <a:ext cx="5886720" cy="26863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2"/>
          <a:stretch/>
        </p:blipFill>
        <p:spPr>
          <a:xfrm>
            <a:off x="3808440" y="2133720"/>
            <a:ext cx="4219560" cy="4730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3"/>
          <a:stretch/>
        </p:blipFill>
        <p:spPr>
          <a:xfrm>
            <a:off x="1187280" y="2708280"/>
            <a:ext cx="6121440" cy="4730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4"/>
          <a:stretch/>
        </p:blipFill>
        <p:spPr>
          <a:xfrm>
            <a:off x="1116000" y="3357720"/>
            <a:ext cx="6121440" cy="4730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5"/>
          <a:stretch/>
        </p:blipFill>
        <p:spPr>
          <a:xfrm>
            <a:off x="971640" y="3933720"/>
            <a:ext cx="720072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56324" descr=""/>
          <p:cNvPicPr/>
          <p:nvPr/>
        </p:nvPicPr>
        <p:blipFill>
          <a:blip r:embed="rId1"/>
          <a:stretch/>
        </p:blipFill>
        <p:spPr>
          <a:xfrm>
            <a:off x="1600200" y="835200"/>
            <a:ext cx="5943600" cy="57625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3635280" y="6107040"/>
            <a:ext cx="57636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图片 55300" descr=""/>
          <p:cNvPicPr/>
          <p:nvPr/>
        </p:nvPicPr>
        <p:blipFill>
          <a:blip r:embed="rId1"/>
          <a:stretch/>
        </p:blipFill>
        <p:spPr>
          <a:xfrm>
            <a:off x="219240" y="946080"/>
            <a:ext cx="8705520" cy="53625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8258040" y="2406600"/>
            <a:ext cx="417600" cy="3430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3"/>
          <a:stretch/>
        </p:blipFill>
        <p:spPr>
          <a:xfrm>
            <a:off x="8317080" y="3716280"/>
            <a:ext cx="417240" cy="3430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4"/>
          <a:stretch/>
        </p:blipFill>
        <p:spPr>
          <a:xfrm>
            <a:off x="8244000" y="4984920"/>
            <a:ext cx="41724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图片 54276" descr=""/>
          <p:cNvPicPr/>
          <p:nvPr/>
        </p:nvPicPr>
        <p:blipFill>
          <a:blip r:embed="rId1"/>
          <a:stretch/>
        </p:blipFill>
        <p:spPr>
          <a:xfrm>
            <a:off x="1266840" y="917640"/>
            <a:ext cx="6610320" cy="539100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2"/>
          <a:stretch/>
        </p:blipFill>
        <p:spPr>
          <a:xfrm>
            <a:off x="4211640" y="1297080"/>
            <a:ext cx="1368360" cy="3427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3"/>
          <a:stretch/>
        </p:blipFill>
        <p:spPr>
          <a:xfrm>
            <a:off x="4067280" y="1714680"/>
            <a:ext cx="2017440" cy="3427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4"/>
          <a:stretch/>
        </p:blipFill>
        <p:spPr>
          <a:xfrm>
            <a:off x="4284720" y="2147760"/>
            <a:ext cx="2017800" cy="3430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5"/>
          <a:stretch/>
        </p:blipFill>
        <p:spPr>
          <a:xfrm>
            <a:off x="1692360" y="3760920"/>
            <a:ext cx="5832360" cy="3427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6"/>
          <a:stretch/>
        </p:blipFill>
        <p:spPr>
          <a:xfrm>
            <a:off x="1619280" y="4192560"/>
            <a:ext cx="5832360" cy="3430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7"/>
          <a:stretch/>
        </p:blipFill>
        <p:spPr>
          <a:xfrm>
            <a:off x="1908000" y="5070600"/>
            <a:ext cx="5832720" cy="3427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8"/>
          <a:stretch/>
        </p:blipFill>
        <p:spPr>
          <a:xfrm>
            <a:off x="1835280" y="5502240"/>
            <a:ext cx="5832360" cy="3430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9"/>
          <a:stretch/>
        </p:blipFill>
        <p:spPr>
          <a:xfrm>
            <a:off x="1835280" y="5950080"/>
            <a:ext cx="583236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图片 52231" descr=""/>
          <p:cNvPicPr/>
          <p:nvPr/>
        </p:nvPicPr>
        <p:blipFill>
          <a:blip r:embed="rId1"/>
          <a:stretch/>
        </p:blipFill>
        <p:spPr>
          <a:xfrm>
            <a:off x="157320" y="166680"/>
            <a:ext cx="8829360" cy="652464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2"/>
          <a:stretch/>
        </p:blipFill>
        <p:spPr>
          <a:xfrm>
            <a:off x="8172360" y="635040"/>
            <a:ext cx="417600" cy="34272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3"/>
          <a:stretch/>
        </p:blipFill>
        <p:spPr>
          <a:xfrm>
            <a:off x="8244000" y="2276640"/>
            <a:ext cx="417240" cy="34272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4"/>
          <a:stretch/>
        </p:blipFill>
        <p:spPr>
          <a:xfrm>
            <a:off x="395280" y="5732640"/>
            <a:ext cx="5832360" cy="34272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5"/>
          <a:stretch/>
        </p:blipFill>
        <p:spPr>
          <a:xfrm>
            <a:off x="6286680" y="5618160"/>
            <a:ext cx="2606400" cy="61920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6"/>
          <a:stretch/>
        </p:blipFill>
        <p:spPr>
          <a:xfrm>
            <a:off x="324000" y="6308640"/>
            <a:ext cx="583236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2T08:39:28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